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848-A936-4732-849F-B220579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99C-EA9B-4A3C-B9E4-0DCF3586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DBF-A317-421F-AED1-8E50E134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FC8-C623-46CB-AC55-AD7EEB99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7B2-8086-4965-9270-B929718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B61-4DB6-4B00-9068-4573AA2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AE-6C98-40E3-A47B-09625EA3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FDA-135D-4F6E-965B-849CB6C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509-D8B5-4FA2-8DCB-104206A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BBF-ED28-451D-B846-6CB8D6BB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49F-2F0A-4F1A-90E3-552C090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3DA-92D2-49E1-9264-A28B963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E21-F87E-4739-9D70-EE6C83AF0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533520" y="-152280"/>
            <a:ext cx="8089920" cy="808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ser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y 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被告知，主人搬家了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taylorsellsorlando.files.wordpress.com/2008/03/for-sale-sign.gif"/>
          <p:cNvPicPr/>
          <p:nvPr/>
        </p:nvPicPr>
        <p:blipFill>
          <a:blip r:embed="rId1"/>
          <a:stretch/>
        </p:blipFill>
        <p:spPr>
          <a:xfrm>
            <a:off x="2133720" y="1523880"/>
            <a:ext cx="5068800" cy="51055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小男孩哭了又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hhi.org/images/photos/boy-crying.jpg"/>
          <p:cNvPicPr/>
          <p:nvPr/>
        </p:nvPicPr>
        <p:blipFill>
          <a:blip r:embed="rId1"/>
          <a:stretch/>
        </p:blipFill>
        <p:spPr>
          <a:xfrm>
            <a:off x="5057640" y="1447920"/>
            <a:ext cx="4086360" cy="416232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答应帮助他找到原来的主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handbook.oxfordisc.com/pics/handshake.jpg"/>
          <p:cNvPicPr/>
          <p:nvPr/>
        </p:nvPicPr>
        <p:blipFill>
          <a:blip r:embed="rId1"/>
          <a:stretch/>
        </p:blipFill>
        <p:spPr>
          <a:xfrm>
            <a:off x="2286000" y="2362320"/>
            <a:ext cx="4286160" cy="427356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那么他们一起出去找那个男人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delivery.superstock.com/WI/223/1557/PreviewComp/SuperStock_1557R-299304.jpg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6898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95680" y="27468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虽然很晚了，他们坚定的走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mikkohiukka.files.wordpress.com/2008/12/walking-by-night.jpg"/>
          <p:cNvPicPr/>
          <p:nvPr/>
        </p:nvPicPr>
        <p:blipFill>
          <a:blip r:embed="rId1"/>
          <a:stretch/>
        </p:blipFill>
        <p:spPr>
          <a:xfrm>
            <a:off x="0" y="1219320"/>
            <a:ext cx="3743280" cy="56386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很友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sillydogs.net/wp-content/uploads/2007/11/polar-bear-funny-dog-death-hug.jpg"/>
          <p:cNvPicPr/>
          <p:nvPr/>
        </p:nvPicPr>
        <p:blipFill>
          <a:blip r:embed="rId1"/>
          <a:stretch/>
        </p:blipFill>
        <p:spPr>
          <a:xfrm>
            <a:off x="2438280" y="1981080"/>
            <a:ext cx="366732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走着走着，他们的友情更深刻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great-inspirational-quotes.com/images/505428_holding_hands.jpg"/>
          <p:cNvPicPr/>
          <p:nvPr/>
        </p:nvPicPr>
        <p:blipFill>
          <a:blip r:embed="rId1"/>
          <a:stretch/>
        </p:blipFill>
        <p:spPr>
          <a:xfrm>
            <a:off x="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skimbley\Local Settings\Temporary Internet Files\Content.IE5\7C2DOFSL\MCj04378050000[1].wmf"/>
          <p:cNvPicPr/>
          <p:nvPr/>
        </p:nvPicPr>
        <p:blipFill>
          <a:blip r:embed="rId2"/>
          <a:stretch/>
        </p:blipFill>
        <p:spPr>
          <a:xfrm>
            <a:off x="4575240" y="2590920"/>
            <a:ext cx="4568760" cy="343692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过了一会儿他们来到了他的房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1752480" y="1971720"/>
            <a:ext cx="5367600" cy="4594320"/>
          </a:xfrm>
          <a:prstGeom prst="rect">
            <a:avLst/>
          </a:prstGeom>
          <a:ln w="0">
            <a:noFill/>
          </a:ln>
        </p:spPr>
      </p:pic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听到他们的故事后，目瞪口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905120" y="167652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把玩具给了小男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143000" y="3200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SKIMBLEY\Local Settings\Temporary Internet Files\Content.IE5\QCLH7MOC\MCj02805340000[1].wmf"/>
          <p:cNvPicPr/>
          <p:nvPr/>
        </p:nvPicPr>
        <p:blipFill>
          <a:blip r:embed="rId2"/>
          <a:stretch/>
        </p:blipFill>
        <p:spPr>
          <a:xfrm rot="10800000">
            <a:off x="5333760" y="4190760"/>
            <a:ext cx="2436840" cy="15634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and4haiti.com/images/Empty_store_shelves.jpg"/>
          <p:cNvPicPr/>
          <p:nvPr/>
        </p:nvPicPr>
        <p:blipFill>
          <a:blip r:embed="rId1"/>
          <a:stretch/>
        </p:blipFill>
        <p:spPr>
          <a:xfrm>
            <a:off x="2981160" y="0"/>
            <a:ext cx="616284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rlv.zcache.com/toy_train_card-p137406417273352252q6k5_400.jpg"/>
          <p:cNvPicPr/>
          <p:nvPr/>
        </p:nvPicPr>
        <p:blipFill>
          <a:blip r:embed="rId2"/>
          <a:stretch/>
        </p:blipFill>
        <p:spPr>
          <a:xfrm>
            <a:off x="411480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85800" y="5335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玩具店里有一个寂寞的玩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一起走回商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C:\Documents and Settings\SKIMBLEY\Local Settings\Temporary Internet Files\Content.IE5\6PQRPP9S\MPj04329470000[1].jpg"/>
          <p:cNvPicPr/>
          <p:nvPr/>
        </p:nvPicPr>
        <p:blipFill>
          <a:blip r:embed="rId1"/>
          <a:stretch/>
        </p:blipFill>
        <p:spPr>
          <a:xfrm>
            <a:off x="5105520" y="1722600"/>
            <a:ext cx="3429000" cy="513540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孩得到了新玩具，笑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:\Documents and Settings\SKIMBLEY\Local Settings\Temporary Internet Files\Content.IE5\QCLH7MOC\MCj04382530000[1].wmf"/>
          <p:cNvPicPr/>
          <p:nvPr/>
        </p:nvPicPr>
        <p:blipFill>
          <a:blip r:embed="rId1"/>
          <a:stretch/>
        </p:blipFill>
        <p:spPr>
          <a:xfrm>
            <a:off x="2286000" y="1752480"/>
            <a:ext cx="4478400" cy="467676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玩具很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8153280" y="22096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Firewall"/>
          <p:cNvSpPr/>
          <p:nvPr/>
        </p:nvSpPr>
        <p:spPr>
          <a:xfrm>
            <a:off x="3886200" y="2976480"/>
            <a:ext cx="5477040" cy="38815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它是一辆黑色的火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1295280" y="152388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一天一位小男孩来到店里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1143000" y="1447920"/>
            <a:ext cx="652788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小男孩找人来付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Boy Looking for His Lunchbox, A young boy appears confused while searching for his lunchbox among a mass of matching lunchboxes at school., © Josef Scaylea/CORBIS, RM, 1, Americans, Asian Americans, Bailey Gatzert Elementary School, Boys, Children, Confusion, Container, Education, Food and drink, King County, Lunch, Lunchbox, Males, Meal, North America, Pacific Northwest, People, Seattle, USA, Washington State"/>
          <p:cNvPicPr/>
          <p:nvPr/>
        </p:nvPicPr>
        <p:blipFill>
          <a:blip r:embed="rId1"/>
          <a:stretch/>
        </p:blipFill>
        <p:spPr>
          <a:xfrm>
            <a:off x="3962520" y="3886200"/>
            <a:ext cx="575316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但是没有人在，他伤心的离开了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chrisbryantmusic.com/img/photos/frowny.jpg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每天小男孩都会回来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3429000" y="3276720"/>
            <a:ext cx="261000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许多月后，小男孩在那里找到一个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danheller.com/images/LatinAmerica/Cuba/People/Men/homeless-man-2-bw-big.jpg"/>
          <p:cNvPicPr/>
          <p:nvPr/>
        </p:nvPicPr>
        <p:blipFill>
          <a:blip r:embed="rId1"/>
          <a:stretch/>
        </p:blipFill>
        <p:spPr>
          <a:xfrm>
            <a:off x="654120" y="2286000"/>
            <a:ext cx="694692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8:01Z</dcterms:created>
  <dc:creator>itsuser</dc:creator>
  <dc:description/>
  <dc:language>en-US</dc:language>
  <cp:lastModifiedBy>itsuser</cp:lastModifiedBy>
  <dcterms:modified xsi:type="dcterms:W3CDTF">2009-04-16T15:57:17Z</dcterms:modified>
  <cp:revision>14</cp:revision>
  <dc:subject/>
  <dc:title>The Deserted Toy Train</dc:title>
</cp:coreProperties>
</file>